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0C30-2DFA-4849-84E2-62CA7D1F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146C-CA26-4A18-98AB-03D1EEED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208D-DC54-46C1-95EA-E8851DCE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7D28-BBBB-4C6F-8198-283CDB7A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1DA6-3F1F-40BE-89E2-4A430E80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BE8-9FDF-489A-8009-F7E863F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0AD4-793D-4067-A690-49D11210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4FD3-06A8-412B-A781-8BA8FB5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129D-C8D4-4891-9FBA-B22CCFB5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213-2E0B-48E6-B569-09C8BD6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59DB-A63D-494D-8E33-71D801F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8E7E-2EC8-4AAA-967D-521A5E77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A066-7C9D-42EC-BC48-45281A0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41E4-DD58-42D7-9ADB-00B502C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38A9-A882-4D9C-982D-226EE883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BF99-0C7B-4761-B918-9611521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1A12-C32E-4FE5-B525-C4472BFC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1D00-09D2-46C7-8CA5-68705B83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3060-8408-4D92-BDB8-77D2413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6FF1-D857-4564-B952-35141164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0C4A-146F-4D64-ADFB-EC69D080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842C-A1EB-443C-AC42-E3CCB13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35A9-681E-4B01-BF22-791656F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64C2-77D0-48B4-9D51-2C7E15E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434-22B6-46E9-9DBB-3714EFD7D7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D8A-1276-41B8-9298-A5913E237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05080" y="4076640"/>
            <a:ext cx="63338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АИСИЙ ХИЛЕНДАРС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365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2027160" cy="28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18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95640" y="3500280"/>
            <a:ext cx="1800360" cy="2543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289548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032360" cy="273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227664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99640" y="306864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родно място повечето от неговите биографи сочат Банс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ското му име вероятно е Пенко или Петъ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ен е в семейството на търговеца Михаил Хадживълч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 посочва, че няма системно образо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 1745 г. св. Паисий заминал за Света гора (Атон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е установил при своя брат Лаврентий в Хилендарския манасти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ук приел монашество и като таксиди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монах, който пътува с поръката да събира помощи за манасти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да кани поклонниц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икалял села и градове, за да събира помощи за манаст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508640"/>
            <a:ext cx="787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ар и да нямал високо образов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й отрано проявявал интерес към миналото на своя на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това го подтикнало към написването на исто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а съществена причина, за да се залови за тази своя иде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ло и крайно тежкото положение на поробеното българско нас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0360" y="4005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лията в Хилендарския манаст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194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816360" cy="354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08200" y="582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1916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ец Паисий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ългарски народен будител и духовни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 на “История славянобългарска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триотизмът и тревогата му за съдбата на българският род и език са изразени в “книжчица” , която възкресява славното минало на българите и внушава ,че имаме основание за високо самочувствие и горд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449440" cy="367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390920" cy="324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73408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фроний Врачан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5440" y="1700280"/>
            <a:ext cx="44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аници от първия препис-котленс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ъхранява се в Народната библиот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.Св. Кирил и Метод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66544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11680" y="1773360"/>
            <a:ext cx="639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родължение на две години той упори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дирвал сведения из атонските манасти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из различни краища на българските зе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време на своите обикол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 завръщането си в Света гора Паис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 преместил в Зографския манаст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макар да бил с разклатено здрав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пял да завърши своя т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История славяноболгарска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народа и за българските ц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ветци и за всички деяния и минало български" (1762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024000" cy="256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1742760" cy="262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24360" y="2637000"/>
            <a:ext cx="2506680" cy="353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2000" y="6165720"/>
            <a:ext cx="59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етникът на отец Паисий в родния му град  Бан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1628640"/>
            <a:ext cx="506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дигна тез листи , и викна висок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днеска нататък българският 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тория има и става народ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ка той познае от моето пис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 голям е той бил и пак ще ст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 и ний сме дали нещо на с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на вси славяни книга да чета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ога му викнат:”Българину!” бес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й да се гордее с това име чест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“Паисий” от Иван Ваз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3624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043080" cy="2663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5480" y="1844640"/>
            <a:ext cx="530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овдивски университет “Паисий Хилендарски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21:29Z</dcterms:created>
  <dc:creator>Home</dc:creator>
  <dc:description/>
  <dc:language>en-US</dc:language>
  <cp:lastModifiedBy>Home</cp:lastModifiedBy>
  <dcterms:modified xsi:type="dcterms:W3CDTF">2013-02-25T18:36:06Z</dcterms:modified>
  <cp:revision>2</cp:revision>
  <dc:subject/>
  <dc:title>Слайд 1</dc:title>
</cp:coreProperties>
</file>